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D4E-A9A8-4735-9982-48113903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7DF-9876-4508-AA10-A45DE5BD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9DD-680E-4F3A-B28D-15666848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62F-6F54-409B-9982-1A5B4D3E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9B48-C10C-46A5-B535-212BD672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1823-848B-49C3-964B-2ABCA1E9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EE8C-029F-4CF0-8FB0-011D39A4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0CFC-D465-4E24-952F-FC8FA2D7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C051-2DE2-4058-8C73-208E2DCB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8212-82F1-4BE5-9AD2-74589B6C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7734-8791-4BD7-B1C2-5DF30244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25E-B542-4F33-8D81-07163D3D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65EC-C890-4A31-8CEF-F083DBD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BC57-1BDE-472A-BB10-FFE3675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B48A-66DA-4876-AB38-6E4FFF24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08F8-CA18-4533-8159-45A5DDA3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5053-A8D5-4112-84D2-A7BA4947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3ACC5-2F43-4E1C-B609-F57B6D43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E167-85E0-4672-AAA5-211869A2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4CBA-F993-4174-B583-27DE522A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E79B-35D4-48BF-889E-7A8715DB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3FB0-DB8C-44F9-ACDC-3CE696F6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333-2BB0-43C5-A5A0-FCDEA8DC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E65E7-7729-4774-B1D4-846D7D1F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FF0B-D8B5-4A9C-B720-9E9517B9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DB59-C31A-4A0E-84BF-7F480A3A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147C-5BCE-4D79-90AE-1CAE43F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C65DD-97E9-42A0-B8E0-1BC7C5A8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19E9-9B27-4CAF-B559-D51803C0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0C38-B588-496E-8F0F-81C440F8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02F2-F86F-4066-A9FF-A03758D5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1829E-C4D1-4F54-B538-8CBF1AA3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4613-C1F5-431B-87CC-99846ECB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382-5D07-4639-A66D-36388526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F66EE-B9FD-405D-A6C0-108E606A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28CA-0929-4B1B-910B-B44ED16A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7F481-C570-4AA1-B359-6E40380A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7F33-8FF0-4975-BBDD-B88E86A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3C60-EEFA-40FF-9DC7-A4FEE895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270D-7D9F-4493-A3C4-E0AAA50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B32E-16B0-4F63-86C0-FCF4B4C1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E9A63-8FF2-4A90-8F53-23B502C4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6B740-5563-40FF-AD62-B15F95B7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6983-57B2-4C8A-A2CC-A10E9406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993-D71C-49ED-B344-D11E16E2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85A4-FB39-4428-8199-AD976293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BCC3E-660C-4981-9CE8-F7DFF4C3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4C63-7931-4023-AFD0-B01DB34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2C824-3BF8-4C9E-808B-06D93EEF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45E70-77B6-4CAA-A8C1-99CB69CA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65978-26BF-4A53-A701-F62EDB32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2B2B7-FC25-47DA-8829-D44CC286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B96F7-F48B-4D29-B0BC-D2887C89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BA4A-BB6E-41AA-88D2-7EBA1CB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CD523-8DD5-4F62-BCD1-58B7FDD5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1FB-1F08-4019-89C6-EBFE3673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8D8F9-E09D-4A8D-8CF1-D5ED1AD6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1D75C-F533-4E29-B5B6-236EC2C1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C3D2-E620-482E-A241-04D3038F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EEE99-80A7-408C-B2E7-40BAC1D3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0A41F-D7BB-4F20-A48A-8F44387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05DB-5CC6-45A6-B528-5B93D69C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ACC84-B7EB-4D9C-AC82-4A929720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6693B-3191-4634-A198-83ED124A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E15EA-E84E-4D73-97AB-4BA77191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45E15-5B04-47F8-9738-02ED9BB0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7B2-1C70-4FA8-812B-94D3821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2DE44-D3B6-4ADC-8CAF-8D43AC2A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75A65-90B0-44A1-B68A-DE9C070F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5D372-0844-4170-9FA3-FFC2BB20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21E50-982B-454B-8458-22EE71B3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60ABC-F93F-4BA6-A5CF-DCCBAD8F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192F8-6843-4F92-90CC-C8BDBDAA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99DDB-9BEF-4E76-9B21-A2684AF1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CAB38-4D08-4C7E-91D1-0CCF9F88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C11E1-8E04-41AE-A276-4A6451A1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28FFB-C3E9-4E78-8337-27C4750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B96-8861-4AFC-A2EC-F27E8E4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A02E2-13A9-4FB4-9266-5D9EB53A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A0300-6B7C-46BB-B1B9-04BA53DB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49F20-582A-42CE-BE02-14114A22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79AD8-9972-40F6-9956-521A851F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F83E5-25EE-46FE-B9A9-B6F738D9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BAE3B-F637-4776-9709-D82B5FA3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9E054-6497-4102-9B66-8D9D53D4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7B692-0D67-4806-8E95-AE287BC3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C244B-E7BF-4EF9-98E7-1B22EA0D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F2FBB-A329-4845-90F9-BA4F306D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FF6-D461-41A5-B82C-3E1BDB6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D6FE8-3AC7-4D04-9414-63735C53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56B9B-417C-4BA6-A0C6-74C633C0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60201-C332-4676-8C7D-DDACB215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4BAA6-E53C-48B6-8F22-1C46EAC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5FF5C-34D7-4D70-B1E4-8C4A48C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CB21B-20C6-45D8-BC35-0A999394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71A0B-4B35-48D8-A39C-5E78A5F1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5766-2C67-4C4A-98BA-ACFEF20D72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9B53-66B3-4289-8DCF-56A0F94742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22E1-7623-4A57-927F-E6DD1A4BAA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30F1-582A-4D82-BB64-7A9B096447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515E-33B5-47D7-9BED-A88B716365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6CE0-7F97-453D-8601-0FCED3A115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D0C2-6459-496E-9FFD-680B38A5FF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3C3E-D594-444B-97BB-BE61EA8E78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03360" y="596880"/>
            <a:ext cx="8083440" cy="2932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. Болесницима с функционалном нивоо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 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саветује се примена протезе с функционалним потенцијалом за остваривање не само хода него и савладавање већине баријера и захтевнијих радних 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офесионалних активности и вежб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Болесницима с функционалном нивоо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 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саветује се примена протезе за најзахтевније активности (нпр. код деце, активне одрасле особе или спортиста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28240" y="12193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езултати протетичке рехабилитације код особа са ампутацијом клинички могу бити различити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У клиничкој пракси можемо их функционално класификовати н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0" y="2819520"/>
          <a:ext cx="9144000" cy="4038480"/>
        </p:xfrm>
        <a:graphic>
          <a:graphicData uri="http://schemas.openxmlformats.org/drawingml/2006/table">
            <a:tbl>
              <a:tblPr/>
              <a:tblGrid>
                <a:gridCol w="457200"/>
                <a:gridCol w="868680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одање с протезом, као одличан резултат рехабилит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ходање с протезом уз употребу штака или ходалице, што се оцењује као добар резул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ходање без протезе уз употребу штака, што представља слаби исход рехабилитациј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ретање уз помоћ инвалидских колица као најнижи исход рехабилит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390" name="Rectangle 4"/>
          <p:cNvSpPr/>
          <p:nvPr/>
        </p:nvSpPr>
        <p:spPr>
          <a:xfrm>
            <a:off x="76212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Процена исхода и резултата протетичке рехабилит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група упитника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који испитују покретљивост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I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група упитника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који испитују функцију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II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група упитника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који испитују квалитет живота особа са ампутацијом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a)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ОПШТИ ТЕСТОВИ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Timed Up and Go Test (TUG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Тестови брзине хода (m/s) у временском периоду од 2 min или 6 min (Timed Walk Tes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b)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ПЕЦИФИЧНИ ТЕСТОВИ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редиктор покретљиво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(Amputee Mobility Predictor – AMP) 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Индекс локомоторне способно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(The Locomotor Capabilities Index – LCI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603360" y="281160"/>
            <a:ext cx="84913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685800" y="21337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ОПШТИ ТЕСТОВИ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Индекс функционалне онеспособљеност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FIM (Functional Independence Measuremen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Бартел индек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ПЕЦИФИЧНИ ТЕСТОВ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530280" y="311040"/>
            <a:ext cx="8242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82844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.Протетички профил болесника са ампутацијом Д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(Prosthetic Profile of the Amputee PP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  <a:ea typeface="Tahoma"/>
              </a:rPr>
              <a:t>Омогућава прикупљање различитих података који се односе на употребу протезе и факторе који могу имати утицај на кориштење протезе.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Део тог упитника је LCI (Locomotor Capability Index), који се користи за праћење локомоторних функциј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682560" y="0"/>
            <a:ext cx="8242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088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.ОПШТИ УПИТНИЦИ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за квалитет живота:</a:t>
            </a:r>
            <a:r>
              <a:rPr b="0" lang="vi-VN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Tahoma"/>
                <a:ea typeface="Tahoma"/>
              </a:rPr>
              <a:t>Short Form 36 (SF36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пецифични упитници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за процену квалитета живота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vi-VN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Упитник евалуације протез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Tahoma"/>
                <a:ea typeface="Tahoma"/>
              </a:rPr>
              <a:t>(Prosthetic Evaluation Questionnaire – PEQ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и</a:t>
            </a:r>
            <a:r>
              <a:rPr b="0" lang="vi-VN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Анкета корисника ортоза и протеза</a:t>
            </a:r>
            <a:r>
              <a:rPr b="0" lang="vi-VN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Tahoma"/>
                <a:ea typeface="Tahoma"/>
              </a:rPr>
              <a:t>(Orthotics and Prothetics User Survey – OPUS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530280" y="426960"/>
            <a:ext cx="82422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Локомоторни индех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редставља део детаљног поступка за процен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ротетичког профила ампутираца” 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(Prothetic Profile for Amputees –PPA)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и у примени је од 1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994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Суштина овог поступка је у избору радње које испитивани треба да изведе (укупно 14) и који се затим осењују целим бројевима од 0 до 3 и затим сабирају.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906480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истем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оцењивања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даје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интервал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између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минималног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скора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(0)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и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максималног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скора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(42)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кала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е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заснива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на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оцена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</a:t>
            </a:r>
            <a:r>
              <a:rPr b="1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не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може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</a:t>
            </a:r>
            <a:r>
              <a:rPr b="1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може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уз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туђу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помоћ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</a:t>
            </a:r>
            <a:r>
              <a:rPr b="1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може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ако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је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поред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њега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друго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лице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</a:t>
            </a:r>
            <a:r>
              <a:rPr b="1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може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потпуно</a:t>
            </a:r>
            <a:r>
              <a:rPr b="0" lang="sr-Latn-C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сам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603360" y="36360"/>
            <a:ext cx="82422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Уста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толиц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одиж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од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едмет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из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тојећег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т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одиж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од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нпр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након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ад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) *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Ход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затвореном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стор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Ход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ван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затвореног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сто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равном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терен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од ампутацијом се подразумева одстрањење оболелог или траумом тешко оштећеног екстремитета у целини или једног његовог дел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Трансосеална ампутација-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која се изводи транверзалним пресеком дуге к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Егзартикулација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- одстрањење екстемитета или дела у нивоу зглобне пукот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53352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Ход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ван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затвореног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сто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неравном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терен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травна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одлог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узбрдиц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шљункови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таз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) *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Ход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ван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затвореног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сто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лошим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временским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иликам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киш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нег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) *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Ход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уз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тепениц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уз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употреб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рукохва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Ход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низ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тепениц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уз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употреб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рукохва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530280" y="66600"/>
            <a:ext cx="82422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218960" y="6854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29920" indent="-529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Пење се на ивичња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29920" indent="-529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29920" indent="-529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Силази са ивичњак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29920" indent="-529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29920" indent="-529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Пење се неколико степеника без употребе рукохвата *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29920" indent="-529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29920" indent="-529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Силази са степеница без употребе рукохвата *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29920" indent="-529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29920" indent="-529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Хода носећи тере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трауматске ампутације (саобраћајних несрећа, повреда на раду, ратне повред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код деце конгениталне аномалије екстремите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васкуларне компликациј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атолошка стања костију (тумори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гангрен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ромене услед обољења крвних судова (М.Биргер, артериосклероза, емболија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метаболичке болести са компликацијама на крвним судовима (дијабетична ангиопатиј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ротетска средства замењују ампутирани део екстремитета, као и његову функциј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Деле са н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1. Протезе за горње екстремитет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2. Протезе за доње ектремитет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Медицинска рехабилитациј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има за циљ протетисање, замену ампутираног дела екстремитета протезом и оспособљавање ампутиране особе за њено коришћењ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Императив протетичке рехабилитациј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је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1. компензација функционалног дефици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. максимално преношење резидуалног покрета и снаге на протетичко помагало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3176640" y="3444840"/>
            <a:ext cx="57913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За процену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функционалних 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а касније и за одређивање функционалних циљева код протетичке рехабилитаци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одобности за протетисање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користи се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кала нивоа мобилност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Centers for Medicare and Medicaid Services Functional Levels – CMS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каденца- број корака у минут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152280" y="762120"/>
          <a:ext cx="8763120" cy="5844960"/>
        </p:xfrm>
        <a:graphic>
          <a:graphicData uri="http://schemas.openxmlformats.org/drawingml/2006/table">
            <a:tbl>
              <a:tblPr/>
              <a:tblGrid>
                <a:gridCol w="811440"/>
                <a:gridCol w="79516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н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Болесник није покретан,нити има потенцијал за ход или трансфер (са или без помоћи) па примена протезе не би побољшала квалитет живота или мобилно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Болесник има потенцијал за употребу протезе за трансфер или ход на истом нивоу с фиксираном каденцом – типично за особе које су ограничено или неограничено покретне унутар кућ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Болесник има потенцијал за употребу протезе с могућношћу хода по мањим баријерама као што су степенице, косине – типично за особе које су ограничено покретне изван кућ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Болесник има потенцијал за употребу протезе с променњивом каденцом, што омогућава савладавање већине баријера па се могу остваривати радне или терапеутске активности или вежбе које захтевају употребу протезе, а које су вишег нивоа од самог ходањ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Болесник има могућност односно потенцијал за употребу протезе за активности које су изнад основних нивоа оптерећења, енергетског утрошка и стреса – типично за протетичке захтеве код деце, активних одраслих особа или спортис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383" name="Rectangle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Скала нивоа мобил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Centers for Medicare and Medicaid Services Functional Lev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. Болесницима с функционалном нивоо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 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не саветује се примена протезе за кретање нити трансфер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. Болесницима с функционалном нивоо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 1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саветује се примена протезе како би се остварио функционални циљ ограничене или неограничене покретљивости унутар кућ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. Болесницима с функционалном нивоо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 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саветује се примена протезе како би се остварио функционални циљ ограниченог кретања изван кућ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01760" y="603360"/>
            <a:ext cx="8467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0:52:28Z</dcterms:created>
  <dc:creator>Veljkovic Miodrag</dc:creator>
  <dc:description/>
  <dc:language>en-US</dc:language>
  <cp:lastModifiedBy>Windows User</cp:lastModifiedBy>
  <dcterms:modified xsi:type="dcterms:W3CDTF">2020-02-12T10:45:06Z</dcterms:modified>
  <cp:revision>131</cp:revision>
  <dc:subject/>
  <dc:title>PROCES PROTETIČKE REHABILITACIJE</dc:title>
</cp:coreProperties>
</file>